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D8E-4D6B-40CF-B9CB-7B35AF34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83B-B7E2-4E4A-B701-CF44996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DB3-AA20-4124-B434-2DD57035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E09-8259-49F4-99C0-FA6210BA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D463-10E3-4883-ABC5-8FB6716A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8131-EC31-491F-B716-46B5B825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DF15-2867-4766-A63B-352A9943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FEED-C7F6-4D31-926A-A79F8AC6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E7F9-F85A-4B13-9AF5-B9E8AC28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BFC0-08F4-4E8F-A596-261FAED1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3D7E-ED9D-436E-829B-C74A6B0A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EEE-710E-49E4-89A1-2988FC21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959-D216-44B1-B499-D503E6C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FFC4-1190-483F-AEAB-7E7CB313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5330-6DFA-416E-B99A-9C4E42FD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15FB-E1FB-440F-8E3C-C65B13DE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1ACB-2799-450E-BFA4-586EC73C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11C-E7DD-4E78-ADAE-9E283187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9E9-9BD6-4C86-8E2A-E737B72A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D6A-FD56-4913-87A2-E89FB857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F61-9424-4663-B475-EE8CF774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678-F8F2-4206-B9C5-9E64E04C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BF9-8D68-4A89-B3FC-7A6E7323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7DB-146E-477E-9978-DCAD1FA2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F904-9305-4916-9E12-433881FEBCA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24EF-C59F-49DD-B64A-CA9A806F5DB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ff0066"/>
                </a:solidFill>
                <a:latin typeface="comic"/>
              </a:rPr>
              <a:t>Housing Needs</a:t>
            </a:r>
            <a:endParaRPr b="1" lang="en-US" sz="7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706840" y="4860720"/>
            <a:ext cx="59292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Housing I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1.01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Sherry Brooks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avid W Butler HS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4674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Midyear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time between when children leave home and parents reti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Verdana"/>
              </a:rPr>
              <a:t>Aging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begins with retirement. At some point, a spouse may live alone due to death. This is the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LARGEST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roup in USA today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t any given time, many families will overlap one or more sta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Individual Life Cyc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Infanc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Newborn to one year old. Totally dependent on caregiv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hildhoo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ages 1-12, still dependent on caregiv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Youth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Preteen to Late teen, becoming more independent but still living in family ho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Adulthood/Ag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20-death: totally independent.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Baby-boomers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eople born 20 yr period after WWII, forms the largest group of Americans tod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Quality of Lif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fined as the degree of satisfaction obtained from life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ersonal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your idea of a perfect life. To some this is a very simple life with few conveniences, to others a large home and status in community and every possible convenie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ociet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making life and its quality better for everyone. Using your time, money, and energy to maintain and support efforts.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Changes in society have been due to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onger life spa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anges in economic conditions and working at ho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anges in family structures and roles, fashions and personal tast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creasing environmental awarenes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Housing Decision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pages 20-3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://sagerave.files.wordpress.com/2008/01/maslow.gif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pyright © 2007, ABCD, All rights reserv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slow’s Hierarchy of Nee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057320"/>
            <a:ext cx="5715000" cy="58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NEE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Physical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most basic human needs. MUST be meet before any other need can be met. Shelter, water, food, rest, and warmt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Psychological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needs related to the mind and feeling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urity: protection from the outside world, both physical and the unknow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ove/acceptance: having your own space (bedroom) or be made a part of grou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Needs con’t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Esteem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respect, admiration, and high regard from other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Self-esteem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is awareness and appreciation of your own self-wort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Self-actualization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you have developed to your full potential as a person. In you chosen profession, you are the best. Often a life-long proc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Other Nee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Beaut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qualities that give pleasure to the senses. An appreciation of beauty changes as you mature because you are exposed to new things and experien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Self-expressio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shown by the colors and styles (clothes, furniture, accessories) you choose. Also changes as you mature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Creativit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combining 2 or more ideas/things to create something new to express yourself.  Painting, landscaping, sewing, cooking, arranging flowers, etc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Statu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material possessions that are equal to a certain lifestyle. Large home in gated community, job, income, social standing (everyone knows your name and family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Privac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everyone needs some privacy for their own well-being. Need to be alone to process thoughts and to be creative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st people in USA value privacy above most other needs and wants. Usually decorate homes to show individualism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Family Typ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Nuclear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includes BOTH parents and their children living under one roof. Children are born or adopt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Single paren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consist of one parent and at least one child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Step/blended family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consist of parents, one or both that may have been married before and includes children from a previous marri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Extended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Several generation of a family living together (children, parents, grandparents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Members of the same generation (brothers, sisters, cousins) all living in same househol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Childless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husband and wife who have never had children by choice or inabil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Family Life Cyc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Beginn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married with no childre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hildbear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couple with children up to 6 years ol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Parenting/expand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couple with children 6-20 years. Could move in order to be in certain school district, children are becoming old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Launch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children are becoming adults and leaving home for college, taking a job, getting married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9:19:16Z</dcterms:created>
  <dc:creator>s.brooks</dc:creator>
  <dc:description/>
  <dc:language>en-US</dc:language>
  <cp:lastModifiedBy>s.brooks</cp:lastModifiedBy>
  <dcterms:modified xsi:type="dcterms:W3CDTF">2009-04-22T16:20:59Z</dcterms:modified>
  <cp:revision>28</cp:revision>
  <dc:subject/>
  <dc:title>Slide 1</dc:title>
</cp:coreProperties>
</file>